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7E0F-E242-4797-A446-F4604BE6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DF9E-7AFD-479F-B04A-2678E659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F520-4C67-471A-9BC9-FEF29F8F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1C19-1860-4980-A0FA-C1093ED4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6203-B97A-4DD7-AD21-7ED3BCEA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C99C-719D-4B0A-8731-3A9613C0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642A72-8DCE-400B-96FB-C9004ACE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77B681-A073-4509-8187-510FD630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2DCF71-D9DE-4EA8-9DFE-C0296ED9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5264-2770-4EBF-B5EA-594B5536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2FBC2A-483D-4D83-A3A2-AC9FC17B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6EB9E1-B649-48C6-B4E2-635834DA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27461D-6EC6-4BDC-919B-A19B0C6E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7E38B2-3CD7-403D-9C3A-2814F75F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25EA13-1D48-4131-B0B3-86DB6C62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1B1530-FEF8-4CA4-8477-EDB4ECA3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30E62F-432C-4968-87D1-EF88DFFC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C77873-76FB-4C1D-8B49-3E61135E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1279C5-CC67-49BD-8A65-BD3BADFB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757049-04B8-41EF-B638-4E61E21F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9813-58AC-4DF1-AD1A-43597368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B7606B-0423-4F8E-9136-96EDD2CF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398357-F288-4A08-B73F-71C05BB9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F09775-C146-4C0B-A749-B22D98C2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6278C7-D3D0-482F-BE5B-F52CA77E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3412AB-35EA-4E7F-A3F8-08469E62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B720A5-EEC1-4AC3-B6CA-64676153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4D7E49-5CB3-42D8-B6C3-7C92C8A0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0C07FF-CFDE-4AD7-B219-4EAEE9C5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FEA529-4A9E-4AC5-8ADF-22CA9A61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B22BA0-8D1D-4FCA-910D-8DDE052D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7523-F364-4E21-ACD9-A76E09CF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594172-6249-40AD-8924-468ACCF8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37BB-AA18-4D9E-9E87-D6638077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1575-BA29-474B-9C62-FEEC1FB3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CDC2-5D15-4577-BB4F-2BB72DCC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EFA4-522E-4538-A7B2-6817D522B4C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A401-991E-4319-90B7-CFAA65515B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C518-EDAC-46AF-9A47-8C9472CC9D49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CAD9-DB01-4F30-A9FD-7D965EDFA9A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7D5E-7644-47CA-8A77-F702F219BB8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9443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A0FB-7B3A-4922-95AC-6F699582388C}" type="slidenum">
              <a:rPr b="0" lang="en-US" sz="1200" spc="-1" strike="noStrike">
                <a:solidFill>
                  <a:srgbClr val="19443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7EDF-C70F-49DC-9D34-1DADEB64627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9443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4D6A-E8CC-4654-B849-8D18C78BE65A}" type="slidenum">
              <a:rPr b="0" lang="en-US" sz="1200" spc="-1" strike="noStrike">
                <a:solidFill>
                  <a:srgbClr val="19443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4431"/>
                </a:solidFill>
                <a:latin typeface="Book Antiqua"/>
              </a:rPr>
              <a:t>Do Now- Remember to write the date, objective, and answer this question.</a:t>
            </a:r>
            <a:endParaRPr b="0" lang="en-US" sz="40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228600" y="1752480"/>
            <a:ext cx="86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Book Antiqua"/>
              </a:rPr>
              <a:t>Describe the trees you see in Clarksdale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Book Antiqua"/>
              </a:rPr>
              <a:t>Skip a line</a:t>
            </a:r>
            <a:endParaRPr b="0" lang="en-US" sz="7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79200"/>
            <a:ext cx="807696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Temperate Deciduous Fores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52280" y="3428640"/>
            <a:ext cx="47246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304920" y="1752480"/>
            <a:ext cx="5257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Book Antiqua"/>
              </a:rPr>
              <a:t>The temperate deciduous forest has all four season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2"/>
          <a:stretch/>
        </p:blipFill>
        <p:spPr>
          <a:xfrm>
            <a:off x="5400720" y="3124080"/>
            <a:ext cx="3743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5000" y="79200"/>
            <a:ext cx="80740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Temperate Deciduous Fores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240" y="1904760"/>
            <a:ext cx="8915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ff"/>
                </a:solidFill>
                <a:uFillTx/>
                <a:latin typeface="Book Antiqua"/>
              </a:rPr>
              <a:t>The trees in this forest are mostly deciduous trees.  Deciduous trees have leaves that change color and fall off in the autumn.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6400800" y="5038560"/>
            <a:ext cx="27432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Review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Book Antiqua"/>
              </a:rPr>
              <a:t>Describe the weather in a temperate deciduous forest.</a:t>
            </a:r>
            <a:endParaRPr b="0" lang="en-US" sz="4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Book Antiqua"/>
              </a:rPr>
              <a:t>What kind of animals and plants might you find there?</a:t>
            </a:r>
            <a:endParaRPr b="0" lang="en-US" sz="4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Book Antiqua"/>
              </a:rPr>
              <a:t>Skip a line</a:t>
            </a:r>
            <a:endParaRPr b="0" lang="en-US" sz="7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596880" y="35434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Taiga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520" y="3352320"/>
            <a:ext cx="4264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380880" y="1981080"/>
            <a:ext cx="66294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Book Antiqua"/>
              </a:rPr>
              <a:t>The taiga has long cold winters and short cool summer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2"/>
          <a:stretch/>
        </p:blipFill>
        <p:spPr>
          <a:xfrm>
            <a:off x="5105520" y="4192560"/>
            <a:ext cx="40384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Taiga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828440"/>
            <a:ext cx="5486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Book Antiqua"/>
              </a:rPr>
              <a:t>The trees in the taiga are conifers, which have a conical shape and needles.  The conical shape allows these trees to shed snow easily without breaking limbs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5346720" y="1346040"/>
            <a:ext cx="3797280" cy="41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Review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Describe the weather of the taiga.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What kind of animals and plants might you find there?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Book Antiqua"/>
              </a:rPr>
              <a:t>Skip a line</a:t>
            </a:r>
            <a:endParaRPr b="0" lang="en-US" sz="7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596880" y="35434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Tundra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520" y="3352320"/>
            <a:ext cx="4264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0" y="2362320"/>
            <a:ext cx="82296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ff"/>
                </a:solidFill>
                <a:uFillTx/>
                <a:latin typeface="Book Antiqua"/>
              </a:rPr>
              <a:t>The tundra has very cold temperatures, short summers, and permafrost.  Permafrost means that the ground is always frozen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3205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Agenda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o Now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mework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tes on biom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ini-biom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acti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ourn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Tundra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21337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ff"/>
                </a:solidFill>
                <a:uFillTx/>
                <a:latin typeface="Book Antiqua"/>
              </a:rPr>
              <a:t>There are few animals in the tundra and no trees.  The plants in the tundra, like moss, lichens, and grass, need less light and can survive cold temperatures.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  <a:p>
            <a:pPr marL="284400" indent="-2844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Review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Describe the weather in the tundra.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What kind of animals and plants might you find there?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Which biome is very cold, has short summers, and no trees?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2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Which biome has all four seasons and deciduous trees?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3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Which biome has long, cold winters and short, cool summers?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4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Which biome has permafrost and very few animals?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5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Which biome has all four seasons and few trees?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6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 Antiqua"/>
              </a:rPr>
              <a:t>Which biome is dry and has large areas of grass?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7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Which two biomes have forests of conifers (hint: one of them we talked about on Monday)?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8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 Antiqua"/>
              </a:rPr>
              <a:t>Which biomes have few or no trees?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Review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Describe the weather in the desert.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What kind of animals and plants might you find there?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9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Book Antiqua"/>
              </a:rPr>
              <a:t>Most of Russia is covered in forests of conifers.  Winters in Russia are long and cold while summers are short and cool.  In which biome is Russia located?</a:t>
            </a:r>
            <a:endParaRPr b="0" lang="en-US" sz="47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0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Most of Georgia is covered in forests of trees whose leaves turn colors and fall off in the fall.  Georgia experiences all four seasons.  In which biome is Georgia located?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1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Tanzania is an African country home to animals like lions, elephants, zebras, and antelope.  Tanzania is covered in large areas of grass, few trees, and has a fairly dry climate.  In which biome is Tanzania located?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2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Northern Alaska is very cold and there is permafrost all year.  Few animals live there and there are no trees.  In which biome is Northern Alaska located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3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How would you characterize (describe) the grassland?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4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764640" y="2070000"/>
            <a:ext cx="79218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How would your characterize (describe) the temperate deciduous forest?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5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How would you characterize the tundra?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6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Book Antiqua"/>
              </a:rPr>
              <a:t>How would you characterize the taiga?</a:t>
            </a:r>
            <a:endParaRPr b="0" lang="en-US" sz="6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7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Which of the following best describes the plant life in the grassland?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lvl="1" marL="1037520" indent="-705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Coniferous trees with needle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lvl="1" marL="1037520" indent="-705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Cacti with waxy exteriors and sharp needle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lvl="1" marL="1037520" indent="-705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Large areas of grass and few tree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lvl="1" marL="1037520" indent="-705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Trees whose leaves change color and fall off in the autumn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8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The temperate deciduous forest’s plant life is characterized by which of the following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790200" indent="-447840">
              <a:spcBef>
                <a:spcPts val="601"/>
              </a:spcBef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Trees whose leaves change color and fall off in autumn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790200" indent="-447840">
              <a:spcBef>
                <a:spcPts val="601"/>
              </a:spcBef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Large areas of grass and few tree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790200" indent="-447840">
              <a:spcBef>
                <a:spcPts val="601"/>
              </a:spcBef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Evergreen trees with needle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790200" indent="-447840">
              <a:spcBef>
                <a:spcPts val="601"/>
              </a:spcBef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Canopied trees requiring much rainfall each yea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2001"/>
              </a:spcBef>
              <a:buClr>
                <a:srgbClr val="ffffff"/>
              </a:buClr>
              <a:buFont typeface="Book Antiqua"/>
              <a:buChar char="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Review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Describe the weather in a tropical rainforest.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What kind of animals and plants might you find there?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9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Book Antiqua"/>
              </a:rPr>
              <a:t>The tundra plant life is characterized by which of the following</a:t>
            </a:r>
            <a:endParaRPr b="0" lang="en-US" sz="3700" spc="-1" strike="noStrike">
              <a:solidFill>
                <a:srgbClr val="ffffff"/>
              </a:solidFill>
              <a:latin typeface="Book Antiqua"/>
            </a:endParaRPr>
          </a:p>
          <a:p>
            <a:pPr lvl="1" marL="1092240" indent="-74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Book Antiqua"/>
              </a:rPr>
              <a:t>Trees whose leaves change color and fall off in autumn</a:t>
            </a:r>
            <a:endParaRPr b="0" lang="en-US" sz="3700" spc="-1" strike="noStrike">
              <a:solidFill>
                <a:srgbClr val="ffffff"/>
              </a:solidFill>
              <a:latin typeface="Book Antiqua"/>
            </a:endParaRPr>
          </a:p>
          <a:p>
            <a:pPr lvl="1" marL="1092240" indent="-74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Book Antiqua"/>
              </a:rPr>
              <a:t>Cacti with waxy exteriors and sharp needles</a:t>
            </a:r>
            <a:endParaRPr b="0" lang="en-US" sz="3700" spc="-1" strike="noStrike">
              <a:solidFill>
                <a:srgbClr val="ffffff"/>
              </a:solidFill>
              <a:latin typeface="Book Antiqua"/>
            </a:endParaRPr>
          </a:p>
          <a:p>
            <a:pPr lvl="1" marL="1092240" indent="-74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Book Antiqua"/>
              </a:rPr>
              <a:t>Evergreen trees with needles</a:t>
            </a:r>
            <a:endParaRPr b="0" lang="en-US" sz="3700" spc="-1" strike="noStrike">
              <a:solidFill>
                <a:srgbClr val="ffffff"/>
              </a:solidFill>
              <a:latin typeface="Book Antiqua"/>
            </a:endParaRPr>
          </a:p>
          <a:p>
            <a:pPr lvl="1" marL="1092240" indent="-74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Book Antiqua"/>
              </a:rPr>
              <a:t>Small plants that can survive cold temperatures</a:t>
            </a:r>
            <a:endParaRPr b="0" lang="en-US" sz="37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Biom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Independent Practice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1671480"/>
            <a:ext cx="914400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Book Antiqua"/>
              </a:rPr>
              <a:t>Foldables: </a:t>
            </a:r>
            <a:endParaRPr b="0" lang="en-US" sz="45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Book Antiqua"/>
              </a:rPr>
              <a:t>On the outside: the biome name and a picture</a:t>
            </a:r>
            <a:endParaRPr b="0" lang="en-US" sz="45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Book Antiqua"/>
              </a:rPr>
              <a:t>On the inside – summarize information about the climate, plants, and animals of the biome</a:t>
            </a:r>
            <a:endParaRPr b="0" lang="en-US" sz="4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Quiz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Journal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Review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Describe the weather of a temperate rainforest.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What kind of animals and plants might you find there?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Book Antiqua"/>
              </a:rPr>
              <a:t>1.5 Biomes Part II: Class Notes</a:t>
            </a:r>
            <a:endParaRPr b="0" lang="en-US" sz="4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Grassland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64640" y="1828800"/>
            <a:ext cx="7845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59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59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59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Book Antiqua"/>
              </a:rPr>
              <a:t>The grassland is dry and has all four seasons. 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Grassland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2361960"/>
            <a:ext cx="8915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 u="sng">
                <a:solidFill>
                  <a:srgbClr val="ffffff"/>
                </a:solidFill>
                <a:uFillTx/>
                <a:latin typeface="Book Antiqua"/>
              </a:rPr>
              <a:t>The grassland has large areas of grass but few trees.  The plants in the grassland can survive long periods without rain. </a:t>
            </a:r>
            <a:endParaRPr b="0" lang="en-US" sz="5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411480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Review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Describe the weather in the grassland.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What kind of animals and plants might you find there?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13:43:23Z</dcterms:created>
  <dc:creator>vdbwahoo</dc:creator>
  <dc:description/>
  <dc:language>en-US</dc:language>
  <cp:lastModifiedBy>Caroline Roth</cp:lastModifiedBy>
  <dcterms:modified xsi:type="dcterms:W3CDTF">2011-05-23T04:33:09Z</dcterms:modified>
  <cp:revision>51</cp:revision>
  <dc:subject/>
  <dc:title>Biomes and Ecosystems</dc:title>
</cp:coreProperties>
</file>